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AC788-137A-4EFF-BD08-0EBC3567B0B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7B299-3A12-4E2B-AAFA-FAF827219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31620-E363-4A17-B443-D1B946D40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AE7F9-36A7-4C2F-A118-FDB4BA928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0B0E5-8ED9-4EDC-AD4C-6EECC5C41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51DEA-BC34-4E76-83E2-B7F49ABC9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87CB2-42FF-4FEE-912D-C8F229B90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8A9D0-CA5F-49B0-9458-5CCDAB9EE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CDF48-3AB3-46D1-94D1-3CB4F02B1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24568-0911-4421-80C4-E990F88E2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48BAE-97C2-44AF-8FCA-8BA6B38C4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AA481-F20C-4409-AB8C-C5BFBD1BF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91E31-6AB1-46E0-8BA4-1FC0113D8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532D9-68B5-4235-8BEE-5C20AFA86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C0AE4-6D99-421B-9F1A-F7F9E13DB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1A935-C9F0-4719-9F5F-F1DA7209C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C9820-7C7B-489F-91D6-BBC6C61BB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65D13-0F99-4161-A0C5-76D47AF3C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0710C-9E4C-485A-B058-56ED85BA4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4F5BF-A26A-4EF8-9310-704DF3B9A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9028B-CE97-49FE-9DBA-35792C5E6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79A2BF-455C-4728-8AEB-64D307CFC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D70A9-17B9-47B5-95E6-8856D6929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ED48B-FD72-4A37-ABC6-AF2C9F52D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B6E7C-65E0-4D68-A629-8969E6394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E34C5-399B-4A0C-A4C9-70A53070A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D9F06-DBCB-4621-880E-2D1E84CCB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89944-0C52-440B-9F38-EDE6E5968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0E96A-AB2B-44EF-8DCA-8552D5E69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B429E-06EE-4F54-87F5-522AFAD4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03C31-A65D-4BA7-B84F-0F1164162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C60BD-DAF4-4512-BD86-A47E87351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98B2E-17AA-4024-8685-4DA83A5BD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1321E-429F-4A13-BD98-B61EB69BB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8B630-906C-41F1-B3D0-14273B98F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93D93-A75F-4BEF-B706-6BE229F52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F9171-AD83-4F5A-9EBF-0000E0A5B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856A3-F5C0-4070-829F-6685BE11E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81AF6-82AE-4A61-AD54-EDB643D1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AD409-C355-4932-8BBF-15186B372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81A63-A78A-4DF5-9312-6697C9884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9C11E-56A7-4AE6-B77D-88A7A01C9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EB977-691D-4101-B9BB-B3795310B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B27D0-F1AF-42AF-A712-D72563CCB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1EF2D-B936-4F88-8783-62D436958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147B8-36FB-4800-9B19-F8C139460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24F6E-14E6-4ACE-971E-DBC0943F7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B6F84-DFF5-4AC8-898E-A539B3D83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C4D94-FB53-4AE1-9920-DF33B6BD2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E2D4B-9A20-4A67-8FD7-59FA4B808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E8989-7FA2-47A5-9440-BC65683D6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30376-862C-478E-ADC7-BD5DFDDB8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EC049-3908-42DB-922C-8C6A108CC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EEE19-E758-4F28-904E-63277FEB6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25883-24D1-47FB-9DD8-96B8E916F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6B8BB-ED42-4CC2-BE37-9EA20DF5E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65007-F3CA-4D19-8C40-468A7562F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5BE3A-766F-4AFB-9F2E-F38C8EADE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B41BD-AB14-4D64-A669-6992D118E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D74B4-B1D1-48F4-8CC3-676EFC924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1E172-72AB-44A2-817F-CC8941A57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8C931-FD65-48B8-8FE5-5750A9DE6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8672D-A79F-4EE8-95A9-A52C5B88D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48E6B-21EC-4EA4-A5C2-E227EF110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AE22A-04DF-4E20-A3EB-6C8D92CA8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47E9D-0971-400C-AF6A-4D4A18216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B0D35-D0F1-4AD1-AD22-C19393C7F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6AEE496-FB6C-487F-956E-A50514F1DF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9A02CDC-25BE-4946-A063-8AF20F1E0B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E562B35-577E-458E-ABCF-0D93DBBB93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9BA99E4-4A73-42C2-89AC-674948A4AF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258FFA8-ED09-4B47-86F0-0CE4116DC6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04A54F5-BCB2-4615-BF39-7D97086C52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C447965-49EF-4956-B9AD-65193483B7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3FA7A69-77B0-40E6-9F0A-0112F86455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FC6398A-DF85-4627-84F3-B32FBAD698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D670BD1-BF32-490A-B852-DAAC6DB068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D339CD-22CF-491D-ADE1-AE7EDD693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559C86A-33B2-4BA1-9D86-B8782A77BA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8ECD866-C8EC-44B6-9363-0DAC0F9406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09F3555-5104-4233-847A-7CF2068CF2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844772D-24F7-40C4-9DE8-D4D71A827B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BC1AFDF-20E7-4B60-8D59-E064D98A8EE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4E40210-8121-4C68-BEBC-64E389DE9A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7D3D832-6888-46D5-91B1-0FB9EA70CF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D8B5231-23ED-411A-8992-0B49977AD7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C6F73CA-10AF-4F49-BF8E-9B44E2EB92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62F6D9A-488B-4930-BB7B-D1C6C99B3F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14BA89C-6A8C-4A82-A0B9-49F422386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9D1611C-4CA7-4E15-BEAD-60272E4533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363E172-755B-4923-B5F1-F6C99DD0CC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945AD41-4A46-4CC1-BAE9-6523175714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DE74846-890C-4562-A1AE-AA981AC05A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8B4DE1D-8A03-4742-83E8-30DB4A4877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7DFA226-67E9-410A-878D-E275B33826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58E214E-83B8-4447-9476-D2E626B247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E51CA0D-BFFF-484B-ACAB-D9D3BF9653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1FA2460-19C4-43B6-9212-51498E40D88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095D7BF-0FB2-48A6-AAAE-6116EA710F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E52B917-AA5C-476C-9D2D-A24745C9C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2C4B61-DCD8-4F27-948B-DE37367B608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A5D8CFB-36E5-42C3-83B8-A037A54EA0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C4046EA-B3BC-4813-BD42-74A0E3EEFB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7A10817A-0782-4EC1-A1B2-B2CCBD0511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2447E5A-7518-42E5-9467-66EDABB86B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25E117D-D1AD-4B6D-830C-06D8401AC3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90AC61C-F68D-459D-8122-133E4CC9A3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111E1E5-1610-4275-AB1B-E75A696588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34616B3-3979-4D3B-A3D6-D0966C3A90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5D52DFE4-9957-4592-9577-E6EEDFA59C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5C9D9E7-8063-43AE-8143-A48CF8B8E4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2D5BA7F-CCD7-4729-A51C-09FC5DF3D6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EB762D5-0F84-4237-B17F-132DE341DC4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4156A73-DE51-4003-A72C-FAAE88F9EB6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7F8BA99-609E-445F-A306-ED1FCDEA21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ACB4740-1D23-46E8-9E72-D3347CA9F2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6B03390-C19B-4CF5-8C63-1EFB2660F22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DD21580-82BC-4EF4-95A3-4573CD1C172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1605CE3-9E32-4920-9C8D-89C76F09A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314ED3A-309D-4571-A4D1-22A077545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D963EFA-3580-4CC6-B889-62CC494D6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38944B0-0B5C-4F27-AB75-8C812C635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1113FBD-DAF2-4149-A8DC-5126FA7405B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CF5C817-0514-4332-BE24-B4A634FEE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CA507FF-6332-49D6-ABC3-BF17D62DD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F3C0C64-6DC9-4BD1-A405-788412CAF7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4DF32E7-64CE-4B8C-84F1-CC5073F7F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2752C59-FBD1-4749-A272-0A10A50CA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9BA7DEE-5DB5-4A58-8880-F7ADCBB2F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425D295-2749-437C-9E87-B795280A506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9B559B5-1991-4260-B245-E2C998A1A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3C009DF-BF4E-4940-B5DE-24337034F6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3CD206E-5B60-4058-B1C8-C1675A7B5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982878C-E3DB-4B79-9416-19BDB9DDFD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00057A4-F29E-4390-884E-AAF9EFAD4A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77466E5-305E-4E7B-95B0-D82009BAFD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41279AA-16CD-4D1D-872C-04F95A51D6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804B780-1519-43A4-B959-59779A616C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715CE0A-8C49-4DBE-8997-E34036F07D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6A044DA-C0C7-4216-88DD-E6EEF090C3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907344-9228-4E73-AF07-B960B57C93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357FB-B437-46B6-BF0F-87AD4EACDD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AA0DFA-0978-48F6-A76F-CA12FC15A3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4B4590E-3572-4552-8C5D-9F1D6ACE0B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3B22AC-FFF3-42F3-B758-4E5C6F57C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E16C1E7-8EA3-4DF6-B9F9-C2A8B88932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3E590FC-B13B-483B-8FF0-A3FBA3FA60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30A0584-26FB-4D6A-800C-FEA417EE8A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FBFF782-64DB-479B-A0BF-B89FAF77EA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E8E3BAB-1170-4323-97CF-C4A99F07FF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D6D3CFA-52A9-4410-AE4E-F7B7C7DAFD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101F2238-B78F-4DF1-9405-2176CC4A5A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BD20ACD-0558-4641-A351-C14C92B361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32D2E8-ED8E-4669-A501-17BB0B30C7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BAE4960-8B10-4542-9C13-18D3465E14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98B9CA3-3279-4FB1-A645-C20DA17F86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95FBCB5-E372-4C14-A369-4EF20C008F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C30E239-6FA4-406C-97B0-F6379C8C6C1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4AB7782-6A3F-4312-A6DB-5F70C56E35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EB5087F-9132-461C-B6E9-6595F1D9B3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D81EDAC-52A3-4753-8B79-602CF06A44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58286BE-718E-485A-8D52-4A19F1D2FE2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774DA53-6FB6-49FA-BBE0-D25D4F7E09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1C23B1B-1EB3-437D-9F74-F5D9929082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5ECD9DE-ECA9-489E-8E2C-5D2DC25FE3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92DE98F-82C8-4D16-9993-145557D068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013AA9-F319-4062-95E1-01D3BE77F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9BB820A-8601-411B-9123-9E432B64BA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5095B4E-ED08-4781-9000-C9575355D6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A8BE437-677F-44A1-9508-6CC9325FBE9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5A9D87B-B080-4AEC-957F-BEAC34B568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1ED343E-CE39-4C26-823A-1F170C35ED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25C75CE-0537-4BFF-8F64-F441BC848E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94E8DCA-E2C7-444B-BDF9-B587DE55A9C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5EB68D9-E382-46C4-B712-A10C4EB288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B191EA5-9A8C-463E-ADB8-67F8ECE2FD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0E733FA-3B11-4D6B-9E43-25F81E9607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6E9D508-1484-4504-B33E-E0C2CCB419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4B74F57-8DDC-4978-B1E5-6860BE4A16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244F6E7-451C-42CC-B7A1-FDF644D484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BAA03B-2CE8-4CC9-A455-B91C46C3E1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4D56D70-8EC3-4F50-BE4D-78A2AF4059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936A97B-62F7-41ED-8A95-E023B420CD8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BCDE7C0-471C-48E5-8659-07FFDCD95E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7BBC5BB-63BE-49AF-B34A-82A5A61B56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2519CC8-D208-4580-8CE5-965317972D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0270AB4-B3E5-4669-A2DC-83EC508C7F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6F74983-ABBC-46AC-B4C4-B6871BC036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59E2CBE-D516-48AC-930D-66519AA99F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2F434C1-5937-4B6B-AC6C-F10B9C693CD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1066376-78B5-4CBB-9E36-5A13B371B4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91F12B7-ECC8-4701-B95E-97C3C172AF2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FB501F8-82AF-4D84-8DEF-925DB497CC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0DE563-5A28-46A3-862B-7DAF0FF424F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FFD3AF4-6609-4764-9CB0-74FF1227AA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2CCD944-29BF-4701-9AFD-1AB538FCE2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0FECF6D-F294-487A-8E2C-F57EB294817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52DF612-C803-4AFF-B612-072BC031A9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EC839CF-AA1F-4373-A139-14594C892E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8B75DCA-6CF2-47BC-B95E-C1B1BC3C4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979D70D-397E-4F9D-B9CA-97D2CA1C4A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E57B816-5424-4EFF-8012-3A1E0416256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50BE549-66C3-4C5F-9764-B1B95F1FCA1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6872EB0-F49D-41DA-8DB3-4EEAA205D6A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2333004-85B7-41B3-9B66-36D1F02816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01900AA-27E5-432C-A17D-F0F34DA7394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DA65DF-DAD8-4571-A85F-1FF74E4FFE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E94A032-3CCD-4D0E-92E9-4A1153D6550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A30F2D7-A308-475C-B9F5-50975E2D798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83C6C16-2068-4BA6-B7B1-FFAB37CE48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DD01F74-6AD7-484F-BCCE-19B511E1B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6143CC6-2C6C-42A3-9D99-81823753A5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76C215E-B4BE-4CEE-9F88-69EBC05AD8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13964A4-CE54-4FA1-8E1F-20A9D593F6F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701F248-262D-4952-B648-174FDB8E03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6577D5A-2D37-41EC-99C1-DDBF5DFBB6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7820936-A812-4570-AFF5-511EA92484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948E59B-EB8D-4043-A589-BED377DFF5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A2D8C45-518C-4E76-90B7-DF951DCFDA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26A17B0-372F-4624-8169-D1BB82BDDD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3655609-114C-4EB2-B1CB-51C7ED1FF5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7A6A23D-646D-47BE-A361-0DB73EF62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59D4C-9808-4FA7-BE4B-3871C80A81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FC789-A9D6-4D40-AAE4-A8562B4CA2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401BD-EABA-44F9-ABA3-CBA8F0F05C8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3004E-ABCE-4636-9DED-689E6ED9E0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930B2-C83F-4235-8FDF-7FDCB4DA7D6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6B309-A1A4-4229-9044-BF8468FB7D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743C7-384F-4BD6-8234-9C5BD09E92B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D066E-77D9-43F7-8F18-EF532AFEAF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8DF2E-039A-4772-BE0F-2B7EC9A020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34750-676A-4096-85DB-640395D1B5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3C78C-E5A6-455A-AF7C-F6E3A8B070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B140F-1D76-429D-A5C3-B755CF714F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E7301-BE1F-45D2-8938-280165D49B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1392120"/>
            <a:ext cx="8348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68436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212840"/>
            <a:ext cx="84960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539640" y="1212840"/>
            <a:ext cx="8348760" cy="45720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35" name="" descr=""/>
          <p:cNvPicPr/>
          <p:nvPr/>
        </p:nvPicPr>
        <p:blipFill>
          <a:blip r:embed="rId1"/>
          <a:stretch/>
        </p:blipFill>
        <p:spPr>
          <a:xfrm>
            <a:off x="0" y="0"/>
            <a:ext cx="9144000" cy="1368360"/>
          </a:xfrm>
          <a:prstGeom prst="rect">
            <a:avLst/>
          </a:prstGeom>
          <a:ln w="0">
            <a:noFill/>
          </a:ln>
        </p:spPr>
      </p:pic>
      <p:pic>
        <p:nvPicPr>
          <p:cNvPr id="1136" name="" descr=""/>
          <p:cNvPicPr/>
          <p:nvPr/>
        </p:nvPicPr>
        <p:blipFill>
          <a:blip r:embed="rId2"/>
          <a:stretch/>
        </p:blipFill>
        <p:spPr>
          <a:xfrm>
            <a:off x="1258920" y="2060640"/>
            <a:ext cx="1297080" cy="1528560"/>
          </a:xfrm>
          <a:prstGeom prst="rect">
            <a:avLst/>
          </a:prstGeom>
          <a:ln w="0">
            <a:noFill/>
          </a:ln>
        </p:spPr>
      </p:pic>
      <p:pic>
        <p:nvPicPr>
          <p:cNvPr id="1137" name="" descr=""/>
          <p:cNvPicPr/>
          <p:nvPr/>
        </p:nvPicPr>
        <p:blipFill>
          <a:blip r:embed="rId3"/>
          <a:stretch/>
        </p:blipFill>
        <p:spPr>
          <a:xfrm>
            <a:off x="6948360" y="1989000"/>
            <a:ext cx="1444680" cy="1573200"/>
          </a:xfrm>
          <a:prstGeom prst="rect">
            <a:avLst/>
          </a:prstGeom>
          <a:ln w="0">
            <a:noFill/>
          </a:ln>
        </p:spPr>
      </p:pic>
      <p:sp>
        <p:nvSpPr>
          <p:cNvPr id="1138"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39"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6:45Z</dcterms:modified>
  <cp:revision>164</cp:revision>
  <dc:subject/>
  <dc:title>Παρουσίαση του PowerPoint</dc:title>
</cp:coreProperties>
</file>